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E696-3CB6-444E-8107-B5F1DA8A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1C26-2E37-4054-AF67-B0A20489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0DA8-A465-451B-A710-EC84A78D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0086-BBBA-401A-9B90-4374832A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2E91-2D7D-4B0C-82CF-38A14888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BEC7-8B13-4163-8F9B-FB48FE60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98F4-9D48-4B7B-9B2E-54075B7B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D45-2FB4-4D73-A372-6181F967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896C-730D-4ED7-9588-0D792841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8088-1B49-4924-B9DA-B31A2710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7058-1957-46B1-BD3E-3E228D7D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785-D91A-4015-8660-CCDF5732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5CB9-6D37-46DD-B431-43514D99C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1599840"/>
            <a:ext cx="3809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 9-2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make predictions as I read and look to see if my predictions are accur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14800" y="609480"/>
            <a:ext cx="5029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picture.  What do you think will happen N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525780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828800" y="151920"/>
            <a:ext cx="73152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the text to make an educated guess on what might happen NEX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o Is the Dark-Haired On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MODEL predict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he students to the front of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reading at the top of page 23 with “You will not object if we look 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read, STOP and tell the kids MY predictions.  The next slides shows you exactly what to write on the post-it note that you will stick to the Chart Paper Graphic Organiz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reading when you get to the bottom of page 2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ing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Says   +     I Know    =      MIGHT happen NEX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EDI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676520"/>
            <a:ext cx="22096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en,” she whisp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ently, “take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klace off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1676520"/>
            <a:ext cx="266724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wish people w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ar of Dav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 their ne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ymboliz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ere Jew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azi soldiers w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for Jewi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to pu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 cam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676520"/>
            <a:ext cx="228600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zi soldiers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en is Jewis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y will take 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343400"/>
            <a:ext cx="228600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did you 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rk-haired one?”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wisted the loc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en’s hair.  “Fro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father?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ilkman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4343400"/>
            <a:ext cx="25909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eople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lted by othe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get ang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4419720"/>
            <a:ext cx="23623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predict that the 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get angry with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diers and yell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Breadwinner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Make 3 predictions on the text as you re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Complete the answers in the packe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tudents will read in their own book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he kids back together with five minutes left of class, and have them share some of their predi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39:18Z</dcterms:created>
  <dc:creator>Administrator</dc:creator>
  <dc:description/>
  <dc:language>en-US</dc:language>
  <cp:lastModifiedBy>Administrator</cp:lastModifiedBy>
  <dcterms:modified xsi:type="dcterms:W3CDTF">2010-09-15T14:02:01Z</dcterms:modified>
  <cp:revision>6</cp:revision>
  <dc:subject/>
  <dc:title>Do Now 9-22 I can make predictions as I read and look to see if my predictions are accurate.</dc:title>
</cp:coreProperties>
</file>